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D63-7722-4C60-AC6E-D105B549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1B9-76DE-4900-B9DC-8FEA3B8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C0A-CEA9-4CC4-AF43-E48A2B13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444-F9B5-423A-9E98-03152B6D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B84-7E7B-4416-8764-88605EFC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6699-2F00-4387-8DFB-C1564ED7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D822-F176-416B-93D5-821CED4D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182C-E60B-4B3F-9025-19911CC2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F2FB-1BD6-4BFC-BBC1-180EBB4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4888-5BC7-4669-8C94-49A3090D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D4B8-F479-4FA3-91C5-87FA86F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CAD-BA33-40F4-AB99-2C96CAE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B03E-6AD4-4CBB-8BC0-2B92BB5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3A28-5020-4C89-AFA9-79EAB65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790-BC0E-4F46-B2EB-99ED0BB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DDB-BAF4-48A1-8787-DA303D2F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B350-A074-4447-A748-219BFF4A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264-DC61-44B6-B617-4913EFB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1CC-EC95-4C65-96B1-4C55461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F7F-6DF4-47F0-B16D-1AB06DEC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28F-B141-4B80-A078-C8FB4E3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9F0-375C-4B33-A3A7-00E01F72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2F0-A0E0-4E55-A389-628079E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19F-A59B-4B54-B236-6D997FE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102-ED6E-4D5B-B515-E2B98ACB6B1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87F-8E4B-42C1-A67A-AA4DC1F8930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ry Of A Wimpy Kid The Ugly Tr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Kin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R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819520" cy="3505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281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19280" y="1904760"/>
            <a:ext cx="3924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g: nervous and laz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ley:is very child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:is bos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m:sometimes 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rick:he is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495680" cy="3772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7920" y="601992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media.photobucke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320" y="1981080"/>
            <a:ext cx="392580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92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’s 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le Gary’s w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mie’s 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6095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 is dealing with the pressures of big parties, increased responsibilities, and awkward changes without his best friend Row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32440" y="0"/>
            <a:ext cx="2311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st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5867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 has lost his best friend Rowley because they got into an argument. Now he’s looking for a new best friend, but the only two best options are Christopher Brownfield, and Tyson San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nd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5867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ny is the flower boy and Greg is the assistant flower boy for uncle Gary’s w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430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’s me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get good grades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say sorry if you did something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’s Bibli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21932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Rodrick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The Last Str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Dog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The Ugly Tru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73988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429000" y="48006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81480" y="480060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934320" y="48006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1424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3924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blibrary.blogspo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oriumbooks.com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svariet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g-internationa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-of-a-wimpy-kid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6:08Z</dcterms:created>
  <dc:creator>D83  User</dc:creator>
  <dc:description/>
  <dc:language>en-US</dc:language>
  <cp:lastModifiedBy>D83  User</cp:lastModifiedBy>
  <dcterms:modified xsi:type="dcterms:W3CDTF">2010-12-03T16:31:21Z</dcterms:modified>
  <cp:revision>6</cp:revision>
  <dc:subject/>
  <dc:title>Diary of a wimpy kid the ugly truth</dc:title>
</cp:coreProperties>
</file>